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6FA-6F4E-4E43-A165-CACEE894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CDB-80CE-43E1-BA58-49F500F5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04A-D13E-463C-9FAE-76596D00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39B-2721-446F-9786-2619E774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4DD8-1F27-4214-9CD3-B412F4C2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74C2-A6C2-4952-AB8E-CC09FCEC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4B48-E013-43F9-A8B7-C5ABEFCD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BB34-7A01-4565-B427-2AB43A02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B273-19DE-41BB-9D85-8F649690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7564-EA5B-4367-A2DC-C4A612ED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6A8D-7CE6-4E85-822D-377FCF32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448-8541-42DD-8DE3-F623CB3E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ED85-68B3-45DD-95E4-C84732B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6098-C3D9-4B38-B036-81E7061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99A-3777-43C4-9A84-86120B34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6552-C390-4F57-8085-FD031003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4289-4CC6-4312-B75E-D8AD58D9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EBC-286F-4193-8A8F-59A1E735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46B-5B04-4D2B-A20C-9C093E74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737-5220-4BBD-927F-40E6D4C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163-5569-4040-9B3C-B1625573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F0C-7DB2-40E0-8D49-16DDE2E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C2E-7012-40B4-8F7C-B30113F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5AA-B314-45EC-81C1-6DB316E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13CE-6D28-46B3-ACBC-4EF5B3A6D4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155D-CA4A-475F-88A5-07134B1B52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derstanding Postwar Tens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 History – Chapter 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0" t="9599" r="0" b="0"/>
          <a:stretch/>
        </p:blipFill>
        <p:spPr>
          <a:xfrm>
            <a:off x="-1523880" y="0"/>
            <a:ext cx="121917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during Racial and Religious Ten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 Section 6 an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five causes and three effects of tension discussed in this se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cco &amp; Vanzet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 Page 33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tional Fa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c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al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9 years 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a g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d in labor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 U.S. during WW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rch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zet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al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2 years 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a g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d in labor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 U.S. during WW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rch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ding Not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2 Emerging Economic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3 Rising Labor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4 Growing Political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6.5 Increasing Social Ten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st three causes and three effects for each tension listed in each S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26.2 Emerging Economic Ten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use 1 = The federal government cancelled wartime contra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ffect 1 = Hundreds of factories clos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2 – Economic Ten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8991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3 – Labor Ten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4 – Political Ten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tion 5 – Social Ten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5:09:41Z</dcterms:created>
  <dc:creator> </dc:creator>
  <dc:description/>
  <dc:language>en-US</dc:language>
  <cp:lastModifiedBy>School District U46</cp:lastModifiedBy>
  <dcterms:modified xsi:type="dcterms:W3CDTF">2010-11-15T12:57:36Z</dcterms:modified>
  <cp:revision>8</cp:revision>
  <dc:subject/>
  <dc:title>Understanding Postwar Tensions</dc:title>
</cp:coreProperties>
</file>